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067800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565-B90D-405F-90CA-8468A1C1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B5B-2E07-4567-8BC3-F725AFF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163-9294-4892-97BE-5BD0626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C00-E028-4D9C-A42E-1AF9F108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E4A-76F0-489E-8D66-D5252E3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6E3-A754-4692-BA3E-72FE1767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616-337E-4DBA-8469-3FA31035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F1B-912E-4848-AB61-F463EB49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6A6-02F4-48DF-A69B-63AC4BC1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98B-37DA-4BA9-8E82-A089E9E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5C4-3895-4E8A-AF9E-CB8ECDD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8BE-7500-4AF4-AAC5-00C8BCB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CC7-44C2-4666-ABF7-7ECBE71B6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int%20Clair%20Sunris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0"/>
            <a:ext cx="6095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John T. Wur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143000"/>
          <a:ext cx="8459640" cy="5519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8459640" cy="55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05:14:24Z</dcterms:created>
  <dc:creator>John</dc:creator>
  <dc:description/>
  <dc:language>en-US</dc:language>
  <cp:lastModifiedBy>John</cp:lastModifiedBy>
  <cp:lastPrinted>1999-07-29T23:15:46Z</cp:lastPrinted>
  <dcterms:modified xsi:type="dcterms:W3CDTF">1999-07-30T00:33:21Z</dcterms:modified>
  <cp:revision>2</cp:revision>
  <dc:subject/>
  <dc:title>No Slide Title</dc:title>
</cp:coreProperties>
</file>